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B8E-8DF0-42A5-99D6-94754982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10DA-F0CB-4D07-950B-5839D038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D7BF-124E-4772-95B7-502D9BA7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75B1-AD86-409D-A2A1-3A184B87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4CF1-DD3F-4480-9232-66D2E423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B996-E9FE-45B9-961A-8CB96721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7E60-A748-4BC2-B849-2E0A9671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45DC-12D7-4BCF-A773-4A22EE58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2720-2888-4D42-9670-CC6D9C7A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C71E-F742-494E-97C9-DB050EB4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28A4-F0F9-40AB-A9AE-6CB9E5BC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ADF8-89A7-4395-9726-314AAB14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4A93-6C10-484D-8E48-DC125694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C801-FC30-49CF-A088-0A25AF5E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06B3-C470-4677-A1C0-087710B1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E26F-16D2-44ED-B66F-2848295F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33DA-A252-4DA8-87D5-C68A43E9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9A434-6C90-4C01-9A47-4F0EE87A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42336-B616-4162-9429-D9192AD2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20945-E549-4FD1-923D-A3918B25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FC241-FF39-4263-B821-0EA0D47A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7EDED-AECA-46E9-B980-A758484B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04FE-8340-4B1F-997C-673CF15C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9A100-FC81-48DB-8733-E3E05EAC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1886C-E6CB-48A8-B72C-69E4247E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1533C-93EB-4704-BB71-1630ACAC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F912C-6EA4-48A1-8BF6-730D8A1D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CC970-B903-4419-9D2F-8F6773B8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097E3-9D7B-4692-94A4-C6B045DB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E745C-04D3-4615-B0C9-B487A6E9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4D641-89DB-4C15-A0AE-9FB0E788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CF6A5-823A-40E8-BFE0-595310F0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49880-BB10-4B6E-9934-2A8229B7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DD95-BFE4-43E6-9AE9-2DB223DB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72965-E0C2-4006-80F4-DBF859F5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1FFE4-8313-40AA-AAF8-E2EA20C2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6D414-3C89-42F0-9C0B-4DDD28BD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002C7-375E-458C-A866-7E5B8F7C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48F73-6EF4-4D1D-BF66-8069BB32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FDEAF-DDF5-4DAD-8067-F2AFB4B5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A0302-51A1-410F-8817-226E769C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3E698-23D7-4C71-999C-81F74D4C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A8902-3432-4C7B-972B-2BA688BE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E6C5D-9FF6-4B11-B805-3BD06029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7DCC-AE48-4918-B5E4-8402C181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DC99C-F2DF-4AE8-A3D8-955ADAB6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E01F9-C513-4160-8466-BBFF93AC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B3848-0604-4EF6-8318-7C4AAC78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7CEB2-084C-4F91-96A4-C95C34FC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04021-315F-4AA5-B10F-E9868B07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F509D-0FFE-4776-8CF7-EA32C238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4E5E0-DE7B-4F50-A23A-CC2CB4B1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BBFFC-C4B0-44A4-88F0-69DFCC4D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66537-A754-4622-9A62-9FC768ED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A2243-6A26-45E2-87BA-1598AF8A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BC1D-91EF-42F9-B23D-927DA0AA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D9C79-745E-4FF4-9F02-62EE5351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17250-3501-4055-8022-8B94EE3E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AD5FF-3043-4D2F-B422-1C416DA2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FBF5B-BD9D-436B-9CA6-DD8FCD74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6C010-AA5F-42FB-8D81-B4A73394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2954D-7D4A-4C44-988F-A45561FA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3A01C-80F8-4699-AF6B-08D3E2C6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3CA2F-9464-46EF-BA1A-F6423833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E3739-8DF6-4299-8941-A60F9834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4A4DF-9874-43F6-80FF-E5D884B3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42A5-9551-4CA6-9F42-6546687D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C2B1D-C9AB-45F5-8AA4-8D01FA2A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1F3A2-171F-4156-8EB2-5BE756EC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1A631-F136-4DED-805D-20040FA4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3F93E-9EF2-4434-BEBE-D0C15345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56B52-3ADE-4CA4-BD69-1C35D1F3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BF43F-9579-4B12-85AC-1670E6BA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37651-4918-422F-AC43-53C046B6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3AF01-13D2-4883-A6CC-2AD4205A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D239C-2394-4389-8249-00A89492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D4FA0-E938-4479-8565-C20E19E9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1B5-31DA-42DC-96F0-FB93AA28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0B8F4-F68A-4653-BC6B-7E47345E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0FAAF-C31E-466D-A749-314DB1BE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B8385-979A-480F-A8DF-FCB1632B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EB060-E892-4648-8B38-DF4816A0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CF244-ED7F-447D-B56A-02924435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BC52-FCB9-42D2-BCC4-FA106DC4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5550-5CD2-43AF-9630-D0C4FF9D88F6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DC2D-D9A0-402B-A73B-5FB6D3553554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D90C-447D-4A2A-AFB6-E44E59EC6899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5B86-109C-465F-8FE8-9FFC7985CB64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62C1-EA3A-4F24-8A12-977C70CA1C7D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D83C-ADDD-41E5-A9FF-F76BDE8ACD48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élní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3C83-EC85-472E-80C2-DDE9B06E7015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Nadpis 1" descr=""/>
          <p:cNvPicPr/>
          <p:nvPr/>
        </p:nvPicPr>
        <p:blipFill>
          <a:blip r:embed="rId1"/>
          <a:stretch/>
        </p:blipFill>
        <p:spPr>
          <a:xfrm>
            <a:off x="566640" y="5181480"/>
            <a:ext cx="8089920" cy="1683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Obrázek 3" descr="hate_crimes.jpg"/>
          <p:cNvPicPr/>
          <p:nvPr/>
        </p:nvPicPr>
        <p:blipFill>
          <a:blip r:embed="rId2"/>
          <a:stretch/>
        </p:blipFill>
        <p:spPr>
          <a:xfrm>
            <a:off x="357120" y="285840"/>
            <a:ext cx="842976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ZECH REPUBLIC -  § 196 :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'violence against a group of inhabitants and against individuals on the basis of race, nationality, political conviction or relig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LAND – Finnish Criminal Cod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makes 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'committing a crime against a person, because of his national, racial, ethnical or equivalent group'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 aggravating circumstance in sentenc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USA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ivil Rights </a:t>
            </a:r>
            <a:r>
              <a:rPr b="0" lang="cs-CZ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ct  (1968):  "</a:t>
            </a: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force or by threat of force, injure, intimidate, or interfere with anyone who is engaged in six specified protected activities, by reason of their race, color, religion, or national origin."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tional Crime Victim Survey</a:t>
            </a:r>
            <a:r>
              <a:rPr b="0" lang="cs-CZ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1999): </a:t>
            </a: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"A hate crime is a criminal offense. In the United States, federal prosecution is possible for hate crimes committed on the basis of a person's race, religion, or nation origin when engaging in a federally protected activity."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1688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20714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right to attend school without being the victim of violence, threats of harm, intimidation, or damage to your belongings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right to be ourself and to be free from being harassed, discriminated against, or attacked for who we are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right to be free from violence motivated by prejudice or hatred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as motiv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ctim is attacked because of its membership in a certain social group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cial group, religion, sexual orientation, disability, class, ethnicity, nationality, age, sex, gender identity, social status or political opinion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zis – Crystal night, Concentration camps – race, relig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. Bartholomew's Day massac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u-klux kla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1" name="Zástupný symbol pro obsah 3" descr="pikekkk.130183310_std.jpg"/>
          <p:cNvPicPr/>
          <p:nvPr/>
        </p:nvPicPr>
        <p:blipFill>
          <a:blip r:embed="rId2"/>
          <a:stretch/>
        </p:blipFill>
        <p:spPr>
          <a:xfrm>
            <a:off x="785880" y="1722600"/>
            <a:ext cx="5500800" cy="4689360"/>
          </a:xfrm>
          <a:prstGeom prst="rect">
            <a:avLst/>
          </a:prstGeom>
          <a:ln w="0">
            <a:noFill/>
          </a:ln>
        </p:spPr>
      </p:pic>
      <p:pic>
        <p:nvPicPr>
          <p:cNvPr id="312" name="Obrázek 4" descr="ku_klux_klan_md.jpg"/>
          <p:cNvPicPr/>
          <p:nvPr/>
        </p:nvPicPr>
        <p:blipFill>
          <a:blip r:embed="rId3"/>
          <a:stretch/>
        </p:blipFill>
        <p:spPr>
          <a:xfrm>
            <a:off x="6858000" y="450072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frequent in the USA - anti-black bi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48,2 % race related, 70% of them anti-black bias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frequent bias motivations: anti-white, anti-Jewish, anti-Islamic, anti-homosexual, and anti-Hispanic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sponse to hate crimes based upon race ethnicity, religion, ..., through: education, outreach, community resources and criminal justice syste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ctims of hate crimes targeted because of their identity</a:t>
            </a:r>
            <a:r>
              <a:rPr b="0" lang="cs-C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se attributes cannot be changed</a:t>
            </a:r>
            <a:r>
              <a:rPr b="0" lang="cs-C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ctims feel degraded, frightened, vulnerable and suspicious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munity members who share with victims may also feel vulnerable, fearful, and powerless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wift and strong law enforcement response can help stabilize and calm the community, while aiding the victim's recover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ep personal crisis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nse of community/system betrayal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treme fear of certain groups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ger/desire for reven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munity tension/fear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oss of trust in criminal justice institutions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ublic damage, i.e. buildings such as churches/synagogu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laws defining specific bias-motivated acts as distinct crim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criminal penalty-enhancement la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 laws creating a distinct civil cause of action for hate crim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 laws requiring administrative agencies to collect hate crime statistic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8:14:11Z</dcterms:created>
  <dc:creator>vlastník</dc:creator>
  <dc:description/>
  <dc:language>en-US</dc:language>
  <cp:lastModifiedBy>vlastník</cp:lastModifiedBy>
  <dcterms:modified xsi:type="dcterms:W3CDTF">2012-03-18T18:34:22Z</dcterms:modified>
  <cp:revision>12</cp:revision>
  <dc:subject/>
  <dc:title>   Adéla Tukhi, Martina Baťková, Ivo Macháček</dc:title>
</cp:coreProperties>
</file>